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778E9-1BEF-43B2-8A29-2B18342F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2BB0-2E64-45CF-8144-B6DF92EB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76588-3099-49F5-85F6-B151B3A4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D2370-0BA7-4A09-BB9B-5345B3B7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381D-7790-4D4B-AB34-A90E341B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AE7F-7097-41E7-AFC0-0C3342CE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DD5D-6EBF-4AC8-8C6A-BEA22314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3124-7873-4C26-B165-95F9AD62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7EB7-78E7-44E1-9B75-3BFEF7FA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187C-61EE-4FE8-8812-4A6E6BDE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CB48-018E-46B6-9A0F-91A11E5E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52CE8-DBA1-45D2-8F62-95A4DEFA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77CC-4712-4059-84F1-B58CC8FD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D377-8577-4564-AFA3-DCC999F6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C17E-B8EE-4D52-9EDF-357DBFCD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D663-B0C5-40DE-90A7-1CE0EFD3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DEF7-4DD7-432E-8ABE-133DE2B2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4818-A860-429F-B0C7-9562A0F5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C57C6-03D7-4800-AFBD-F7945158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EE6A2-01C3-4B1D-88DC-9A31A74A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7853E-373B-4A84-AE2F-8FA9E439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989C-20BB-4125-A259-A8BEE3A5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33F12-7D3F-4E35-942E-A6CFFF90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63A8A-B093-423E-B5B2-1DAA6317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5175-0383-493C-8B99-CE1FAA94501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CD87-BE18-484C-8A08-BD7BCEDABDC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-136440"/>
            <a:ext cx="95774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15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(Пр.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  <a:ea typeface="Arial"/>
              </a:rPr>
              <a:t> Възложи товара с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  <a:ea typeface="Arial"/>
              </a:rPr>
              <a:t>сега на Господ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  <a:ea typeface="Arial"/>
              </a:rPr>
              <a:t>тежкия товар слож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  <a:ea typeface="Arial"/>
              </a:rPr>
              <a:t>на Господа Бога тво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  <a:ea typeface="Arial"/>
              </a:rPr>
              <a:t>и Той ще те подпре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  <a:ea typeface="Arial"/>
              </a:rPr>
              <a:t>Господ ще поне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  <a:ea typeface="Arial"/>
              </a:rPr>
              <a:t>най-тежкий товар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  <a:ea typeface="Arial"/>
              </a:rPr>
              <a:t>Господ ще поне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  <a:ea typeface="Arial"/>
              </a:rPr>
              <a:t>най-тежкий товар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  <a:ea typeface="Arial"/>
              </a:rPr>
              <a:t>Шепне утеха То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  <a:ea typeface="Arial"/>
              </a:rPr>
              <a:t>на морни душ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  <a:ea typeface="Arial"/>
              </a:rPr>
              <a:t>Нему ти товара сво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  <a:ea typeface="Arial"/>
              </a:rPr>
              <a:t>с пълна вяра възложи!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14:41:03Z</dcterms:modified>
  <cp:revision>84</cp:revision>
  <dc:subject/>
  <dc:title>Slide 1</dc:title>
</cp:coreProperties>
</file>